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9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22.wmf" ContentType="image/x-wmf"/>
  <Override PartName="/ppt/media/image5.wmf" ContentType="image/x-wmf"/>
  <Override PartName="/ppt/media/image20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585-33DA-4344-9FDD-D48092C4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472-E62E-4992-863B-1CA59A38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183-7C82-4B51-AEDA-AB6705C3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875-DDAE-4A76-B19F-A344BB3C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B58-0E0F-49EC-91BE-C5020499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445-CC0C-43DC-AF23-B62DFF6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55D-8B13-499A-B152-3361B23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710-5056-4C40-B9C7-11BE21B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EA-80B5-4E25-AF87-D45483D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F70-3785-4535-9E82-8001606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FEE-FCFA-4E27-96A3-B7B0B0F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3FC-BC35-44F6-8CF0-100103B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8C5-BDE4-4514-887D-429BE976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00280"/>
            <a:ext cx="7128000" cy="44640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A DAY IN THE LIFE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At Gordano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6364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By Georgia Aker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0542" t="2625" r="15650" b="26220"/>
          <a:stretch/>
        </p:blipFill>
        <p:spPr>
          <a:xfrm>
            <a:off x="2771640" y="2637000"/>
            <a:ext cx="4104000" cy="278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t home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home I usually practice my keyboard, watch the TV or do my home-work. Also I have been known to annoy my older sister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ome-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normally get 2 or 3 pieces of homework a night . It usually takes from 45minutes up to 1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1368360" cy="102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Key-board and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2852640"/>
            <a:ext cx="5348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the keyboard e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 4:30pm until 5:00pm . I really enjo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64560" y="570564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476280"/>
            <a:ext cx="127980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570564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2781360"/>
            <a:ext cx="1784160" cy="163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359480" y="278136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492360" y="33336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1763640" y="4572000"/>
            <a:ext cx="571500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ed ti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670716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ually go to bed around 10:00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y own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s my keyboar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V, a bed! And my ke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4280" y="0"/>
            <a:ext cx="2709720" cy="2863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139160" y="3243240"/>
            <a:ext cx="152064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33640"/>
            <a:ext cx="5940360" cy="3024360"/>
          </a:xfrm>
          <a:prstGeom prst="rect">
            <a:avLst/>
          </a:prstGeom>
          <a:gradFill rotWithShape="0">
            <a:gsLst>
              <a:gs pos="0">
                <a:srgbClr val="cc66ff">
                  <a:alpha val="47058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orning routine and getting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et up around 7:00am from Monday to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 have a shower in the morning but sometimes my sister beats me in the shower so I then run ou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414520" cy="249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2879640" cy="19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Getting t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et to and from  school b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et taken by either my mum or dad but every other day I get taken by my sisters friends mum, with her younger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people get to and from school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92880" y="0"/>
            <a:ext cx="3651120" cy="36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81640" y="4076640"/>
            <a:ext cx="2443320" cy="245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205000"/>
            <a:ext cx="5184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registration between 8:45 until 9:00 every morning except on Fridays when we have it from 8:45 until 9: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utor is Miss Michelle. She is a science teacher and is very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9158600">
            <a:off x="250920" y="549000"/>
            <a:ext cx="285408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784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es mi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784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2112600">
            <a:off x="6407280" y="476280"/>
            <a:ext cx="273672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32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es s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32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irst lesson-H1 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13372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.C.T is really fun as our teacher is Mr Humpherys and he makes our lessons really fun and exciting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" y="223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12000" y="260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448000" cy="183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86200" y="342900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on Monday to Thursday is at 10:40am until 11:00am, but on Fridays it is t 11:00am until 11:20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052640"/>
            <a:ext cx="29512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brake time I hang around in the Elliot roo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s is the Elliot room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07640" y="1267920"/>
            <a:ext cx="86364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22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my lock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2846520" cy="189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1547640" y="4076640"/>
            <a:ext cx="7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133720"/>
            <a:ext cx="5689440" cy="44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4168800" cy="2779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413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is is the science block</a:t>
            </a: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1773360"/>
            <a:ext cx="57780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1341360"/>
            <a:ext cx="3745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ce in Gordano is really fun as you do exiting practical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have 2 science teachers who are call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 Fraser and Miss Ev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lunch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our lunch from 12:40pm until 1:35pm from Monday – Thursday, and then 12:10pm until 1:35pm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 yum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07360" y="0"/>
            <a:ext cx="1736640" cy="180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4400" y="-34920"/>
            <a:ext cx="1828800" cy="159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207504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2027160" cy="231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Phys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557360"/>
            <a:ext cx="698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 education  with Miss Kift is really fun as she lets us do really fun things. Like play sport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ce a week we have a different sports teacher called Mrs. Rose, who is also very fun to be taught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5616360" cy="312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 flipV="1">
            <a:off x="6804000" y="58053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12000" y="551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as it is a 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65880" y="4932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4:22Z</dcterms:created>
  <dc:creator>8georgiaakerman</dc:creator>
  <dc:description/>
  <dc:language>en-US</dc:language>
  <cp:lastModifiedBy>Technical Resources Manager</cp:lastModifiedBy>
  <dcterms:modified xsi:type="dcterms:W3CDTF">2008-11-24T11:31:07Z</dcterms:modified>
  <cp:revision>29</cp:revision>
  <dc:subject/>
  <dc:title>Introduction </dc:title>
</cp:coreProperties>
</file>